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855B-8E82-4F32-9D27-63517F01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C0D-F70D-4F8F-A843-39199E9B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55F-C09C-4467-B535-D57048A3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9B1-239A-49B6-9E27-605935D3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5AC8-F754-4C26-A1CD-10702076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FAA0-14B2-4B4B-B251-D1565A75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3039-65F0-4670-8812-ABB2CCBA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3A30-C01E-466A-A78E-A4C11A6E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7AAA-47BE-4C3B-957D-DE472D77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5A16-A469-4839-BF26-178E1940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E91A-CA41-418C-96E1-739615AE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A752-9C31-4D2D-B3E9-70DF25AB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BC82-AF93-4FF4-AA2F-3D48BD32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82AB-1066-4FDF-8DA4-F9FA329A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FBCE-66C9-4ACC-891B-AB2AEBF6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E92B-DD74-481E-9E93-678DED0A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B924-AE74-43F2-AB11-68505A49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66D-4E11-43F3-9878-DD261122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C73-AD8B-4D3E-A702-0EF3B7F6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BDF-58E1-4A25-A90B-BAA3E881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FA5-AEA4-4A97-92F8-C0625D2E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9FD-D656-468E-81F0-D9169407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8E9-3CF4-4660-8DB0-4586F633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C7D-2B29-4F80-9CC0-C1610919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B790-45E6-45D0-AA9D-D0AF2607DC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7337-7207-4D79-A194-462D070BAA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bowermanknight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0" y="5410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ril,27,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#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228600"/>
            <a:ext cx="73152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cccc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thletic Shoe</a:t>
            </a:r>
            <a:endParaRPr b="0" lang="en-US" sz="6000" spc="1" strike="noStrike">
              <a:ln w="12600">
                <a:solidFill>
                  <a:srgbClr val="33cccc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800600"/>
            <a:ext cx="487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51814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257800"/>
            <a:ext cx="5410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g Blas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ay 7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52280" y="3657600"/>
            <a:ext cx="2135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Bowerman &amp; Knight"/>
          <p:cNvPicPr/>
          <p:nvPr/>
        </p:nvPicPr>
        <p:blipFill>
          <a:blip r:embed="rId1"/>
          <a:stretch/>
        </p:blipFill>
        <p:spPr>
          <a:xfrm>
            <a:off x="1066680" y="1295280"/>
            <a:ext cx="6477120" cy="2376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89280" y="4303800"/>
            <a:ext cx="634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724280"/>
            <a:ext cx="5943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thletic sho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ay 10,2010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eb.mit.edu/invent/iow/bowermanknigh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80988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657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illip Knight and William Bowerman invented the first Athletic Sho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entury"/>
              </a:rPr>
              <a:t>Invention: Athletic Sho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athletic shoe that Bill Bowerman and Phil Knight made had more elev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hen they made the Waffle Shoe those were the most popular out of all the athletic apparel shoes they m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n one Olympic trial 3 of the first runners wore Nik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rom endorsement deals they made a lot of money on the shoes like superstar Michael Jordan had a catchy slogan that said “Just do I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n Athletic shoes and Nike went public in 19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2278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entury"/>
              </a:rPr>
              <a:t>Inventor: Bill Bowerman and Phil Knight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hil Knight in 1958 had a business major at the University of Oreg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hil was on the track team and his coach was Bill Bower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ill didn’t like the clumsiness of the American running sho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y both formed a company in 1964 to make a better sho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n in 1968 the company was called N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19:47Z</dcterms:created>
  <dc:creator>install</dc:creator>
  <dc:description/>
  <dc:language>en-US</dc:language>
  <cp:lastModifiedBy>install</cp:lastModifiedBy>
  <dcterms:modified xsi:type="dcterms:W3CDTF">2010-05-12T13:13:20Z</dcterms:modified>
  <cp:revision>8</cp:revision>
  <dc:subject/>
  <dc:title>Slide 1</dc:title>
</cp:coreProperties>
</file>